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1A4-ECA9-4640-A250-80285E04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B59-AC5B-482B-9D84-2EB6F225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310-BB46-4947-9F66-80A0F0AA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7E1-AA6F-4833-970D-0EA31D39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357-438A-474F-83DB-1C04594E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451-23C4-46BB-ACC1-8E5AF53D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E73-6DCB-4591-A494-F55C19C7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E3B-95C8-4D31-BF67-ACDEC831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F01-2B1D-4241-95C3-A60EE008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942-DB06-469B-B508-23EB990E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7D4-CE19-483A-815A-B2F767DC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8B3-6944-496F-ADC9-087EF48A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2D37-D84F-4EFA-9CE1-7F3274BB2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оремећаји ацидобазне равнотеж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оремећаји метаболизма воде и електролит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боличка ацидоза – без анјонског ј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строинтестинални губици бикарбо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јаре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ренажа панкреасних и танког црева садрж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нална 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ковима индукована хиперкали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уретици који штеде калиј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иметопри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нтами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ЦЕ инхибитори и АР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СА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иклоспорин и такроли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т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ремећаји метаболизма воде и електрол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вол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натр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натр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кали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калием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калц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калц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омеостаза магнез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357880" y="333360"/>
            <a:ext cx="3079800" cy="1523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Dies diem doc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Labor praebet quod natura neg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иселине и базе – дефиниција и знач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Јак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аб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спарљив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иксне (метаболичке, неиспарљиве кисели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аке б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лабе б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дбрана против нарушавања pH вред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уфе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мене у вентилац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брежни механизми за излучивање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синтезу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уфе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карбонатни пуфер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nderson-Hasselbalchov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једнач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сфатни пуфер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еински пуфер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спираторна регулација ацидобазне равноте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спираторна 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спираторна алка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езација метаболичких ацидо-базних поремећ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убрежна контрола ацидобазне равноте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креција водоникових јона и реапсорпција бикарбонатних јона бубрежним тубул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зивање вишка водоникових јона фосфатним и амонијачним пуферима у тубулу – механизам стварања нових бикарбонатних ј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цена бубрежне ацидобазне секре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аболичка 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аболичка алка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ијагноза и врсте поремећ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едноставни ацидо-базни поремећ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шани ацидобазни поремећ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боличка ацидоза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исок анјонски ј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актатна 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ето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јабетич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лкохол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адов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окс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брежна слабост (акутна и хронич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9-08T07:58:01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